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999D0-9618-421B-802E-109AF4D263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5734E-19A5-47ED-8D80-5BD9F2710D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BA903-8982-40DD-885A-71FA3051C7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BE963-46DE-4D57-8340-50A9059D49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7D431-9E19-4430-A44B-20D5ED3A7E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B444B-0D72-47A4-AD60-EC70AF28B0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57059-3E76-4906-B1F6-865BBC8FA6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B4737-7A6B-4568-8C44-5E54BC2E03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DED84-FF6B-47E9-A2D9-E2A953C46A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601A6-031B-4E8C-842E-D3C42BBDBF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Rubor, calor, dolor, tumor, functio la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B5CDD-B0F9-43D4-9A91-0A888AD2C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62FF6-DF15-4171-A8E9-74E7250FBC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06AD9-10C7-48CA-9BE1-74623C34D0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698CF-A371-41B6-8A33-791904FDBC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30FB8-207C-4FD6-83BD-AC481E6A66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0D424-5248-4749-8C91-FC53E58804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71CFB-20B4-4147-8093-314AD6CCD7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49F3C-115E-41E7-9BB2-C20BE69C6D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46FCA-C24B-4BAB-8A8C-04A2B20D9F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AAB00-6817-49ED-9D2D-8C674C3FA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99955-56A7-44AB-8A3B-6F83B7C6DD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25EFB-FAEB-4B7D-AB8E-8B3145AA50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A5514-5768-4CEF-874B-CB2DC7CB0B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55140-82C5-46CD-A2EC-0616C06A52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7A10D-002A-4974-87B8-94AB6AE4C7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B99CE-4C3F-4299-8D81-DDF3DDE0B5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C4283-CBAF-44D0-9E85-407BB7B6CF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4CC7E-73C0-4A87-A5D7-8B308F27C5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03310-5A69-4C00-970D-B22C109987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C1BDA-C5B0-4554-8C37-4DEE7873DF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F8CF1-E62F-4D96-B798-D6F3A9F87F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FE174-D770-46A8-9A65-27660B268C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7D847-33E4-4BCE-96B0-BF7BE788D8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54F47-D42E-49CE-A066-B6541C20B7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CCDF6-8AFB-4AA6-9792-CB75045865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4D55C-921A-4036-B789-2FDFCD6D4C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F01A0-F806-4E1C-B398-D0724850D7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9D49B-FCDD-4CA9-8C4F-561A0ED511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9C8AD-B511-487B-8071-541CE2A959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668E3-B578-4C5E-B702-F8F464C29A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6CC11-3A97-48E4-B2FE-35074E98D9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EEB57-D5FD-461F-A312-456F647C83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BAFE5-7AC8-4366-8F36-BE93265736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14733-ACBB-4C50-9615-00E9085397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F8AB4-DFD6-44FA-BE4A-02D3D77234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088D7-F1EE-45B1-9FB8-76FF1457EA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5C4A7-FA28-4E50-B20F-4EA0E0AFB5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ACCFB-45E0-4338-932F-496627751B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1FF04-8043-4CCA-AAD7-FAFE35B50A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3ECA1-513E-4B62-8879-539E0C3502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94619-EBF4-4968-928B-284821DDCF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C8B91-D3D1-4EB7-B13C-D859E2E597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AF6E1-7FC4-4C11-AC55-7765DF2FC2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0C94E-7898-4719-A2F9-2302A6CD75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E3062-BD9F-4DCC-BE2F-C451A823BB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A043F-D086-4CD2-85B1-B5E0F233E5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72498-7406-4FA6-89F7-7E51A01DF2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22D58-4EF0-4404-841B-020B8BC4D9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84C59-CC42-4009-8F85-A6152BBCF0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6F16D-41C9-4E34-8C34-86495FBCEF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BF938-CF6C-403E-A0A5-F2A3A0432D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94EA5-FE98-4650-BC4C-3BAA828B43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33243-A066-4AE9-BD12-A77EDBC5B4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89B45-5F4F-4497-A77A-F34E4EF77C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4C5CA-F254-4035-92FE-B3ED97B8E9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F5EA9-EEB9-4CE8-A494-5F134B91D8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9EF40-3CDD-47ED-B4B9-5EBC8B5A74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16B66-5CA1-4A5F-9530-AF61D7F0E3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4C12A-CBFC-47DF-A6CE-9D7E421423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940FC-C1B9-49E1-90D4-2FDB5F74A3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DB707-39AB-4AD0-8AC3-DF6364AAD9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AD28B-D069-44EA-AAE4-D216388736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4190C-6184-4844-AC0F-8959CB990A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17455-3DA4-41C7-B162-12F76340EB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0E6CB-3FB6-4BA7-ABF0-F51065239E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3F931-15DC-41CE-9688-3C9B20A3F4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9DF9F-FBC9-40EE-8437-CBF4034B9A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F289-5244-423D-BD82-8FBF5AB80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C93C-80C9-4B38-81BD-131E1D3B4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EAD46-4A70-49D5-9E31-ED3C5A681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246B-1BAA-42BE-9E0E-10C9424CC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9E08-1E35-4BA9-AB8B-FD1C188B9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B428-AC42-4F68-95C5-E0676170F3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2EB0-7344-4C94-B92E-0FBC0A092C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7DB1E-48E1-497B-AE07-86903CDDC2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CF11-BE3C-47B3-9216-CDB7103C63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CCF80-E87E-44C6-AA5B-D9858AD83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C112-010F-4DF9-8EBB-818EE70AB3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18A03-E516-478F-A885-9EF53AA19E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66DF-45AF-4491-8F5E-59AA686BB5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4EAB-8DC2-436B-BECF-00F1C284D7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921E-D024-40F8-AD75-B1EED68207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5CD4E-DB93-4186-B79A-C25112D7C6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2056-AF8C-48B2-AAD3-8A85E1A6DE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488C-127B-4B16-AEE5-813D65793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B5AB-4CFE-4DA4-ACDB-08A4B0B69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7181-1FBE-4D9D-B5DA-E8DA9D47C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EBFC-5F94-47DE-AFA4-DE2D2F169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C917-EF23-408E-850F-01D67EF9B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67E8-991B-49C5-BFCD-456115A6B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8EB3-3CFD-4432-BBEB-1840FEC2A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CCA99-3137-4D37-84D3-114314338EB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s-E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EAA12-5564-4971-BC47-DF94846B1E74}" type="slidenum">
              <a:rPr b="0" i="1" lang="es-E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"/>
          <p:cNvSpPr/>
          <p:nvPr/>
        </p:nvSpPr>
        <p:spPr>
          <a:xfrm>
            <a:off x="611280" y="3284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Rehabilitation of  patients with rheumatic disease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36E31-6FE6-4ADD-8911-90410149E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24000" y="1341360"/>
            <a:ext cx="8640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3720" algn="just">
              <a:lnSpc>
                <a:spcPct val="80000"/>
              </a:lnSpc>
              <a:spcBef>
                <a:spcPts val="55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the clinical and radiographic picture, there are four stages of RA 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eriarticula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welling of the soft tissu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round MCP and PIP joints) and juxta-articula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steopor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narrowing of the joint space, development of subcortical cysts and edge erosions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su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incipien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uscle atrop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possible occurrence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ubcutaneous nodul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enosynovitis, without joint deformation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rosive changes are more prominent (destruction of the joint head)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joint sublux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ost often MCP and MTP), muscle atrophy, subcutaneous nodules and tenosynovitis,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joint de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kyl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changes already described in the stage III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F58F9-FC90-4AA9-91BC-BBBAA18059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5545080" cy="2446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"/>
          <p:cNvSpPr/>
          <p:nvPr/>
        </p:nvSpPr>
        <p:spPr>
          <a:xfrm>
            <a:off x="3995640" y="189000"/>
            <a:ext cx="4978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rning stiffness (&gt; 30min),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Swelling of the symmetrical joi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MCP, MTP, PIP, wrist and other joint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ut the spine never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A5EF8-32C2-478C-A1B7-FBE6F90E2C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rcRect l="0" t="0" r="12492" b="3000"/>
          <a:stretch/>
        </p:blipFill>
        <p:spPr>
          <a:xfrm>
            <a:off x="539640" y="549360"/>
            <a:ext cx="3333960" cy="295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5780160" y="2077920"/>
            <a:ext cx="3240000" cy="30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11280" y="1000080"/>
            <a:ext cx="822960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o suspect RA?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lling of three or more joi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lling of MTP or MCP joi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squeeze t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ning stiffness &gt; 30 m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4F8C2-576C-440E-A6A2-AC532F4D1F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 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Laboratory testin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alyses which indicate the presence of inflammatory 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P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alyses which indicate the influence of immunological and other complaints during development of 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F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ti C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+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00534-1AD6-4289-919E-253270688E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44360" y="189000"/>
            <a:ext cx="8999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R/EULAR classification criteria for RA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0</a:t>
            </a:r>
            <a:br>
              <a:rPr sz="3200"/>
            </a:b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 score </a:t>
            </a:r>
            <a:r>
              <a:rPr b="1" lang="sr-Latn-CS" sz="2200" spc="-1" strike="noStrike">
                <a:solidFill>
                  <a:srgbClr val="ff0000"/>
                </a:solidFill>
                <a:latin typeface="Calibri"/>
                <a:ea typeface="Arial"/>
              </a:rPr>
              <a:t>≥ 6</a:t>
            </a:r>
            <a:r>
              <a:rPr b="1" lang="sr-Latn-CS" sz="2200" spc="-1" strike="noStrike">
                <a:solidFill>
                  <a:srgbClr val="ff0000"/>
                </a:solidFill>
                <a:latin typeface="Calibri"/>
              </a:rPr>
              <a:t> points is required for classification as definite RA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2"/>
          <p:cNvGrpSpPr/>
          <p:nvPr/>
        </p:nvGrpSpPr>
        <p:grpSpPr>
          <a:xfrm>
            <a:off x="457200" y="1484280"/>
            <a:ext cx="8055000" cy="1719360"/>
            <a:chOff x="457200" y="1484280"/>
            <a:chExt cx="8055000" cy="1719360"/>
          </a:xfrm>
        </p:grpSpPr>
        <p:sp>
          <p:nvSpPr>
            <p:cNvPr id="174" name="Rectangle 3"/>
            <p:cNvSpPr/>
            <p:nvPr/>
          </p:nvSpPr>
          <p:spPr>
            <a:xfrm>
              <a:off x="457200" y="1484280"/>
              <a:ext cx="3093480" cy="1710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) Joint involvement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3563280" y="148428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 medium-sized joint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7131240" y="148428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3563280" y="182844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-10  medium-sized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7131240" y="182844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3563280" y="2172600"/>
              <a:ext cx="3560040" cy="3344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-3 small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7131240" y="2172600"/>
              <a:ext cx="1371240" cy="3344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3563280" y="2512080"/>
              <a:ext cx="3560040" cy="33588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4-10 large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7131240" y="2512080"/>
              <a:ext cx="1371240" cy="33588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3563280" y="285768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&gt;10 small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7131240" y="285768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4"/>
            <p:cNvSpPr/>
            <p:nvPr/>
          </p:nvSpPr>
          <p:spPr>
            <a:xfrm>
              <a:off x="356328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>
              <a:off x="713124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>
              <a:off x="3563280" y="182844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3563280" y="217260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>
              <a:off x="3563280" y="251208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3563280" y="285768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20"/>
            <p:cNvSpPr/>
            <p:nvPr/>
          </p:nvSpPr>
          <p:spPr>
            <a:xfrm>
              <a:off x="45720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851220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457200" y="148428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457200" y="320364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Group 24"/>
          <p:cNvGrpSpPr/>
          <p:nvPr/>
        </p:nvGrpSpPr>
        <p:grpSpPr>
          <a:xfrm>
            <a:off x="457200" y="3247920"/>
            <a:ext cx="8066160" cy="630360"/>
            <a:chOff x="457200" y="3247920"/>
            <a:chExt cx="8066160" cy="630360"/>
          </a:xfrm>
        </p:grpSpPr>
        <p:sp>
          <p:nvSpPr>
            <p:cNvPr id="196" name="Rectangle 25"/>
            <p:cNvSpPr/>
            <p:nvPr/>
          </p:nvSpPr>
          <p:spPr>
            <a:xfrm>
              <a:off x="457200" y="3247920"/>
              <a:ext cx="3093480" cy="621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2) Duration of synovitis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6"/>
            <p:cNvSpPr/>
            <p:nvPr/>
          </p:nvSpPr>
          <p:spPr>
            <a:xfrm>
              <a:off x="3563280" y="3247920"/>
              <a:ext cx="3571200" cy="342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&lt;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6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eek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7"/>
            <p:cNvSpPr/>
            <p:nvPr/>
          </p:nvSpPr>
          <p:spPr>
            <a:xfrm>
              <a:off x="7142400" y="3247920"/>
              <a:ext cx="1371240" cy="342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28"/>
            <p:cNvSpPr/>
            <p:nvPr/>
          </p:nvSpPr>
          <p:spPr>
            <a:xfrm>
              <a:off x="3563280" y="3599280"/>
              <a:ext cx="3571200" cy="26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≥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eek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29"/>
            <p:cNvSpPr/>
            <p:nvPr/>
          </p:nvSpPr>
          <p:spPr>
            <a:xfrm>
              <a:off x="7142400" y="3599280"/>
              <a:ext cx="1371240" cy="26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30"/>
            <p:cNvSpPr/>
            <p:nvPr/>
          </p:nvSpPr>
          <p:spPr>
            <a:xfrm>
              <a:off x="356328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714240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32"/>
            <p:cNvSpPr/>
            <p:nvPr/>
          </p:nvSpPr>
          <p:spPr>
            <a:xfrm>
              <a:off x="3563280" y="359928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5720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852336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5"/>
            <p:cNvSpPr/>
            <p:nvPr/>
          </p:nvSpPr>
          <p:spPr>
            <a:xfrm>
              <a:off x="457200" y="3247920"/>
              <a:ext cx="8056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36"/>
            <p:cNvSpPr/>
            <p:nvPr/>
          </p:nvSpPr>
          <p:spPr>
            <a:xfrm>
              <a:off x="457200" y="3878280"/>
              <a:ext cx="8056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37"/>
          <p:cNvGrpSpPr/>
          <p:nvPr/>
        </p:nvGrpSpPr>
        <p:grpSpPr>
          <a:xfrm>
            <a:off x="468360" y="3906720"/>
            <a:ext cx="8055000" cy="665280"/>
            <a:chOff x="468360" y="3906720"/>
            <a:chExt cx="8055000" cy="665280"/>
          </a:xfrm>
        </p:grpSpPr>
        <p:sp>
          <p:nvSpPr>
            <p:cNvPr id="209" name="Rectangle 38"/>
            <p:cNvSpPr/>
            <p:nvPr/>
          </p:nvSpPr>
          <p:spPr>
            <a:xfrm>
              <a:off x="468360" y="3906720"/>
              <a:ext cx="3080520" cy="6559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) Acute phase response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39"/>
            <p:cNvSpPr/>
            <p:nvPr/>
          </p:nvSpPr>
          <p:spPr>
            <a:xfrm>
              <a:off x="3563280" y="3906720"/>
              <a:ext cx="3585240" cy="3247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rmal levels of both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RP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nd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S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40"/>
            <p:cNvSpPr/>
            <p:nvPr/>
          </p:nvSpPr>
          <p:spPr>
            <a:xfrm>
              <a:off x="7155000" y="3906720"/>
              <a:ext cx="1358640" cy="3247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3563280" y="4239360"/>
              <a:ext cx="3585240" cy="320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bnormal levels of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RP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or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S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42"/>
            <p:cNvSpPr/>
            <p:nvPr/>
          </p:nvSpPr>
          <p:spPr>
            <a:xfrm>
              <a:off x="7155000" y="4239360"/>
              <a:ext cx="1358640" cy="320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43"/>
            <p:cNvSpPr/>
            <p:nvPr/>
          </p:nvSpPr>
          <p:spPr>
            <a:xfrm>
              <a:off x="356328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44"/>
            <p:cNvSpPr/>
            <p:nvPr/>
          </p:nvSpPr>
          <p:spPr>
            <a:xfrm>
              <a:off x="715500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5"/>
            <p:cNvSpPr/>
            <p:nvPr/>
          </p:nvSpPr>
          <p:spPr>
            <a:xfrm>
              <a:off x="3563280" y="423936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46"/>
            <p:cNvSpPr/>
            <p:nvPr/>
          </p:nvSpPr>
          <p:spPr>
            <a:xfrm>
              <a:off x="46836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47"/>
            <p:cNvSpPr/>
            <p:nvPr/>
          </p:nvSpPr>
          <p:spPr>
            <a:xfrm>
              <a:off x="852336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48"/>
            <p:cNvSpPr/>
            <p:nvPr/>
          </p:nvSpPr>
          <p:spPr>
            <a:xfrm>
              <a:off x="468360" y="390672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49"/>
            <p:cNvSpPr/>
            <p:nvPr/>
          </p:nvSpPr>
          <p:spPr>
            <a:xfrm>
              <a:off x="468360" y="457200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Rectangle 50"/>
          <p:cNvSpPr/>
          <p:nvPr/>
        </p:nvSpPr>
        <p:spPr>
          <a:xfrm>
            <a:off x="0" y="6248520"/>
            <a:ext cx="2362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1"/>
          <p:cNvSpPr/>
          <p:nvPr/>
        </p:nvSpPr>
        <p:spPr>
          <a:xfrm>
            <a:off x="5295600" y="6620040"/>
            <a:ext cx="443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letaha D. et al. Ann Rheum Dis 2010 69: 1580-1588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52"/>
          <p:cNvGrpSpPr/>
          <p:nvPr/>
        </p:nvGrpSpPr>
        <p:grpSpPr>
          <a:xfrm>
            <a:off x="468360" y="4641840"/>
            <a:ext cx="8055000" cy="1984320"/>
            <a:chOff x="468360" y="4641840"/>
            <a:chExt cx="8055000" cy="1984320"/>
          </a:xfrm>
        </p:grpSpPr>
        <p:sp>
          <p:nvSpPr>
            <p:cNvPr id="224" name="Rectangle 53"/>
            <p:cNvSpPr/>
            <p:nvPr/>
          </p:nvSpPr>
          <p:spPr>
            <a:xfrm>
              <a:off x="468360" y="4641840"/>
              <a:ext cx="3080520" cy="197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) Serology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63280" y="4641840"/>
              <a:ext cx="3571200" cy="3236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egative RF 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7142400" y="4641840"/>
              <a:ext cx="1371240" cy="3236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56"/>
            <p:cNvSpPr/>
            <p:nvPr/>
          </p:nvSpPr>
          <p:spPr>
            <a:xfrm>
              <a:off x="3563280" y="4974840"/>
              <a:ext cx="357120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F and/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positive at low titer: maximum 3 times above the upper reference valu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57"/>
            <p:cNvSpPr/>
            <p:nvPr/>
          </p:nvSpPr>
          <p:spPr>
            <a:xfrm>
              <a:off x="7142400" y="4974840"/>
              <a:ext cx="137124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58"/>
            <p:cNvSpPr/>
            <p:nvPr/>
          </p:nvSpPr>
          <p:spPr>
            <a:xfrm>
              <a:off x="3563280" y="5796360"/>
              <a:ext cx="357120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F and/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positive at high titer: 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&gt;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 times above the upper reference value    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59"/>
            <p:cNvSpPr/>
            <p:nvPr/>
          </p:nvSpPr>
          <p:spPr>
            <a:xfrm>
              <a:off x="7142400" y="5796360"/>
              <a:ext cx="137124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0"/>
            <p:cNvSpPr/>
            <p:nvPr/>
          </p:nvSpPr>
          <p:spPr>
            <a:xfrm>
              <a:off x="356328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61"/>
            <p:cNvSpPr/>
            <p:nvPr/>
          </p:nvSpPr>
          <p:spPr>
            <a:xfrm>
              <a:off x="714240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2"/>
            <p:cNvSpPr/>
            <p:nvPr/>
          </p:nvSpPr>
          <p:spPr>
            <a:xfrm>
              <a:off x="3563280" y="497484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3"/>
            <p:cNvSpPr/>
            <p:nvPr/>
          </p:nvSpPr>
          <p:spPr>
            <a:xfrm>
              <a:off x="3563280" y="579636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4"/>
            <p:cNvSpPr/>
            <p:nvPr/>
          </p:nvSpPr>
          <p:spPr>
            <a:xfrm>
              <a:off x="46836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65"/>
            <p:cNvSpPr/>
            <p:nvPr/>
          </p:nvSpPr>
          <p:spPr>
            <a:xfrm>
              <a:off x="852336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66"/>
            <p:cNvSpPr/>
            <p:nvPr/>
          </p:nvSpPr>
          <p:spPr>
            <a:xfrm>
              <a:off x="468360" y="464184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67"/>
            <p:cNvSpPr/>
            <p:nvPr/>
          </p:nvSpPr>
          <p:spPr>
            <a:xfrm>
              <a:off x="468360" y="662616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6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900C6-C48B-4966-86B6-83DD5D9D92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 of R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2400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The AIM of treatment is th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maintenance of functional capacity of the locomotive apparatu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joints and muscles, for enabling the patient as much as possible for performance of basic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activities of daily livin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professional 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D9897-D384-44BF-BB03-53129748998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57200" y="67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 of R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755640" y="2314440"/>
            <a:ext cx="763272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Medicamentous therapy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SAIDs, glycocorticoids, disease-modifying medicines, biological therapy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formation and educ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EC25A-45D9-4A6E-8D3C-CAA4C9C90E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68360" y="404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hysical therapy of RA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539640" y="1197000"/>
            <a:ext cx="8147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Аcute phase –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phase of active synovit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Joint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unload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evention of joi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ormiti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y positioning of an extremity,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y use of plastic orthoses or plaster splints, which are removed during day for performing kinesi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yotherap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– reduction of inflammation and pain, 5-1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a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(isometric) contraction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5. General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inactivity and resting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CE8FF-F322-4CB2-8AD6-BF3C2EFCCB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22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tho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D679E-C01B-428F-BF19-AB3BA27015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736720" cy="2378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3708360" y="1844640"/>
            <a:ext cx="2158920" cy="3051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6176880" y="1557360"/>
            <a:ext cx="206712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468360" y="404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Kinesitherapy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539640" y="1197000"/>
            <a:ext cx="8147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ims of kinesitherap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muscle atroph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joint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contra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development of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оsteoporosi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bone destruction due to in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B5D07-0EB3-45C4-AB05-BE8E600CA8B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395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heumatic disea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457200" y="1619280"/>
            <a:ext cx="82296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Rheumatic diseases are etyologically, pathogenetically, clinically and therapeutically a heterogenous group of diseases.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main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symptom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in the structures of the locomotive apparatu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main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sig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disrupted functio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f the affected part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ome diseases involve other organs and system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D44B3-FA0D-4328-85E4-ABD19B671F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Kinesitherapy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50920" y="1125360"/>
            <a:ext cx="662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tatic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isometric) contractions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On weak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еxtensors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</a:rPr>
              <a:t>for maintenance of muscle mass and strength and prevention of flexor contracture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Can be performed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In all positions, and also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while wearing splints.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6804000" y="220500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EEFC0-6916-4B86-90C6-CF81064282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Physical therapy of RA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in chronic phase  (remission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68360" y="1341360"/>
            <a:ext cx="82296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motherapeu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rocedur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W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frared rad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raffin wax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therap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G; EF with Novocain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ortico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DDC; IFC; TENS; ES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ulse Magnetic Fiel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tiedematou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alge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dati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asero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alges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ti-inflammator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Hydro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rm local bath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ctive exercise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for maintenance and improvement of the 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range of mo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 the damaged joint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ctive resisted exercises with proper dosag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or maintenance and improvement of the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muscle strength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joint stabilizers. 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3D56F-2029-43E8-A4DD-B52DF1EBB5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75564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kylosing spondylitis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7FE2D-0B39-4A9F-843D-269E1B2665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395280" y="333360"/>
            <a:ext cx="826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kylosing spondyliti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Morbus Bechterew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468360" y="148428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xial spondyloarthritis (by ASAS definition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hronic inflammatory rheumatic disease characterized by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ynoviti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I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 synovial joint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pinal column 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(intervertebral, costovertebral, costotransversal) and more seldom CF, GH and peripheral joints;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flammatory lesions of muscular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sertion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(еnthesitis) of the spinal column, ligaments and tendon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lvi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(attachment of annulus fibrosus, anterior and posterior longitudina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lig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 yellow ligaments),peripheral joints and synchondrosis;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flammatory or fibrous lesions of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ther organ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 algn="just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flammatory lesions of the locomotive apparatus spontaneously end in ossification,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kylosis of joints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ossification of insertions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9CCE6-6F6D-4DC9-A417-F5AE45521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Morbus Bechterew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755640" y="1701720"/>
            <a:ext cx="7632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LAB27 allele is positive in 90 - 95%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RF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alence in the world 1 – 2%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begins between the ages of 15 and 29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common in men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 : W = 3 : 1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0BFD4-4873-4BDE-B2C5-52B58175D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407880" y="189000"/>
            <a:ext cx="826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agnosis - ASAS criteri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49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E95A5-131A-4461-9865-665252709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027760" y="2058840"/>
            <a:ext cx="3598560" cy="1128960"/>
          </a:xfrm>
          <a:prstGeom prst="rect">
            <a:avLst/>
          </a:prstGeom>
          <a:solidFill>
            <a:srgbClr val="dce6f2">
              <a:alpha val="91000"/>
            </a:srgbClr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293920" y="1192320"/>
            <a:ext cx="4438800" cy="64260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Lumbar pain ≥3 months;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age at the onset of symptoms &lt;</a:t>
            </a:r>
            <a:r>
              <a:rPr b="1" lang="sr-Latn-C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45 year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076720" y="2058840"/>
            <a:ext cx="35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Open Sans"/>
              </a:rPr>
              <a:t>2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. 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Verified presence of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HLAB27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+ ≥ 2 characteristics of Sp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000080" y="2058840"/>
            <a:ext cx="3751200" cy="137268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Verified sacroileitis 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(MRI or X-ray verified signs of acute inflammation acording to modified New York criteria)</a:t>
            </a:r>
            <a:br>
              <a:rPr sz="16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+ ≥ 1 SpA characteristic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428920" y="3357720"/>
            <a:ext cx="4824360" cy="328860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SpA characteristics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Inflammatory lumbar pai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enthesitis (heel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uve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arthr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dactyl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psorias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coll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good response to NSAID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SpA in the family anamnes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+ HLAB27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increased level of CRP (SpA characteristic only in the context of chronic lumbar pain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AutoShape 8"/>
          <p:cNvCxnSpPr/>
          <p:nvPr/>
        </p:nvCxnSpPr>
        <p:spPr>
          <a:xfrm flipH="1">
            <a:off x="2995200" y="1790280"/>
            <a:ext cx="216720" cy="2689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AutoShape 9"/>
          <p:cNvCxnSpPr/>
          <p:nvPr/>
        </p:nvCxnSpPr>
        <p:spPr>
          <a:xfrm>
            <a:off x="5796000" y="1775880"/>
            <a:ext cx="289440" cy="2754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395280" y="20520"/>
            <a:ext cx="826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characteristics of A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2"/>
          <p:cNvGrpSpPr/>
          <p:nvPr/>
        </p:nvGrpSpPr>
        <p:grpSpPr>
          <a:xfrm>
            <a:off x="179280" y="765000"/>
            <a:ext cx="8775720" cy="5811840"/>
            <a:chOff x="179280" y="765000"/>
            <a:chExt cx="8775720" cy="5811840"/>
          </a:xfrm>
        </p:grpSpPr>
        <p:sp>
          <p:nvSpPr>
            <p:cNvPr id="283" name="Rectangle 3"/>
            <p:cNvSpPr/>
            <p:nvPr/>
          </p:nvSpPr>
          <p:spPr>
            <a:xfrm>
              <a:off x="179280" y="765000"/>
              <a:ext cx="2739240" cy="2093400"/>
            </a:xfrm>
            <a:prstGeom prst="rect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SKELETAL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4"/>
            <p:cNvSpPr/>
            <p:nvPr/>
          </p:nvSpPr>
          <p:spPr>
            <a:xfrm>
              <a:off x="2928240" y="765000"/>
              <a:ext cx="6016680" cy="2093400"/>
            </a:xfrm>
            <a:prstGeom prst="rect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xial arthritis (sacroiliitis, spondylit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rthritis „of the waist joints“ (hips and shoulder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eripheral arthritis more seldom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Other: enthesitis, osteoporosis, vertebral fractures, spondylodiscitis, pseudoarthrosis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179280" y="2866320"/>
              <a:ext cx="2739240" cy="2090160"/>
            </a:xfrm>
            <a:prstGeom prst="rect">
              <a:avLst/>
            </a:prstGeom>
            <a:solidFill>
              <a:srgbClr val="d0e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XTRASKELETAL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2928240" y="2866320"/>
              <a:ext cx="6016680" cy="2090160"/>
            </a:xfrm>
            <a:prstGeom prst="rect">
              <a:avLst/>
            </a:prstGeom>
            <a:solidFill>
              <a:srgbClr val="d0e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cute anterior uveitis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Cardiovascular disorders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(aortic insufficiency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spiratory disorders (lung fibros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Lesions of the intestinal mucosa (Chron's disease/collit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soriasis 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179280" y="4962600"/>
              <a:ext cx="2739240" cy="1602720"/>
            </a:xfrm>
            <a:prstGeom prst="rect">
              <a:avLst/>
            </a:prstGeom>
            <a:solidFill>
              <a:srgbClr val="e9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SYSTEMIC MANIFESTATIONS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2928240" y="4962600"/>
              <a:ext cx="6016680" cy="1602720"/>
            </a:xfrm>
            <a:prstGeom prst="rect">
              <a:avLst/>
            </a:prstGeom>
            <a:solidFill>
              <a:srgbClr val="e9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Fatigue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Weight loss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norexia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Night sweating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nemia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292824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179280" y="2866320"/>
              <a:ext cx="87660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79280" y="496260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7928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95500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179280" y="76500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179280" y="657684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9B1C2-DE3C-4DCA-9EC5-E26CAE9C0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412920" y="476280"/>
            <a:ext cx="826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395280" y="1197000"/>
            <a:ext cx="8280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involving locomotive syste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Vertebral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Kyphosis, kyphoscoli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tlanto-axial dislo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!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steopor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Vertebral body fracture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Cauda equina syndrome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Extravertebral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nkylosis of peripheral joint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EXTRA-ARTICULAR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myloid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ephrolythia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FB009-08CA-4384-9E74-9FCE35EA7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rcRect l="46407" t="5988" r="4278" b="9862"/>
          <a:stretch/>
        </p:blipFill>
        <p:spPr>
          <a:xfrm>
            <a:off x="5508720" y="1743120"/>
            <a:ext cx="3419280" cy="47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Palatino Linotype"/>
              </a:rPr>
              <a:t>Functional assesment through specifc tes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pecific instrument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tests) for A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B7241-09B2-4068-A43C-A2DDB7E61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187280" y="1308240"/>
            <a:ext cx="813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23360" rIns="222336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000"/>
            </a:b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74680" y="2378160"/>
            <a:ext cx="8427960" cy="3919320"/>
            <a:chOff x="274680" y="2378160"/>
            <a:chExt cx="8427960" cy="3919320"/>
          </a:xfrm>
        </p:grpSpPr>
        <p:sp>
          <p:nvSpPr>
            <p:cNvPr id="305" name="Rectangle 5"/>
            <p:cNvSpPr/>
            <p:nvPr/>
          </p:nvSpPr>
          <p:spPr>
            <a:xfrm>
              <a:off x="274680" y="2378160"/>
              <a:ext cx="5815080" cy="631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INSTRUMENT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6099480" y="2378160"/>
              <a:ext cx="2589840" cy="631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MEASURES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7"/>
            <p:cNvSpPr/>
            <p:nvPr/>
          </p:nvSpPr>
          <p:spPr>
            <a:xfrm>
              <a:off x="274680" y="3017520"/>
              <a:ext cx="5815080" cy="7866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disease activity index (BASDA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8"/>
            <p:cNvSpPr/>
            <p:nvPr/>
          </p:nvSpPr>
          <p:spPr>
            <a:xfrm>
              <a:off x="6099480" y="3017520"/>
              <a:ext cx="2589840" cy="7866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Degree of disease activity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274680" y="3814200"/>
              <a:ext cx="5815080" cy="534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functional index (BASF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0"/>
            <p:cNvSpPr/>
            <p:nvPr/>
          </p:nvSpPr>
          <p:spPr>
            <a:xfrm>
              <a:off x="6099480" y="3814200"/>
              <a:ext cx="2589840" cy="534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1"/>
            <p:cNvSpPr/>
            <p:nvPr/>
          </p:nvSpPr>
          <p:spPr>
            <a:xfrm>
              <a:off x="274680" y="4350240"/>
              <a:ext cx="5815080" cy="5220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Dougados functional index (DF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2"/>
            <p:cNvSpPr/>
            <p:nvPr/>
          </p:nvSpPr>
          <p:spPr>
            <a:xfrm>
              <a:off x="6099480" y="4350240"/>
              <a:ext cx="2589840" cy="5220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274680" y="4880160"/>
              <a:ext cx="5815080" cy="588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metrology index (BASM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6099480" y="4880160"/>
              <a:ext cx="2589840" cy="588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74680" y="5477040"/>
              <a:ext cx="5815080" cy="80892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Modified stoke ankylosing spondylitis spinal score (m-SASSS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6099480" y="5477040"/>
              <a:ext cx="2589840" cy="80892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Structural damage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7"/>
            <p:cNvSpPr/>
            <p:nvPr/>
          </p:nvSpPr>
          <p:spPr>
            <a:xfrm>
              <a:off x="609948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8"/>
            <p:cNvSpPr/>
            <p:nvPr/>
          </p:nvSpPr>
          <p:spPr>
            <a:xfrm>
              <a:off x="274680" y="3018960"/>
              <a:ext cx="84182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9"/>
            <p:cNvSpPr/>
            <p:nvPr/>
          </p:nvSpPr>
          <p:spPr>
            <a:xfrm>
              <a:off x="274680" y="381420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0"/>
            <p:cNvSpPr/>
            <p:nvPr/>
          </p:nvSpPr>
          <p:spPr>
            <a:xfrm>
              <a:off x="274680" y="435024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74680" y="488016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>
              <a:off x="274680" y="547704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3"/>
            <p:cNvSpPr/>
            <p:nvPr/>
          </p:nvSpPr>
          <p:spPr>
            <a:xfrm>
              <a:off x="27468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870264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5"/>
            <p:cNvSpPr/>
            <p:nvPr/>
          </p:nvSpPr>
          <p:spPr>
            <a:xfrm>
              <a:off x="274680" y="237816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6"/>
            <p:cNvSpPr/>
            <p:nvPr/>
          </p:nvSpPr>
          <p:spPr>
            <a:xfrm>
              <a:off x="274680" y="629748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ment of the spinal column mobilit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35933-CE3F-493B-8418-E24D6A356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68360" y="1557360"/>
            <a:ext cx="8229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Rheumatic diseases are characterized b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great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frequenc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every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7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t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patient who seeks medical help)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low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mortality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rate (as a cause of death they make a negligible share of 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01 ‰)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long-term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sickleave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th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or 2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eading cause of employee absenteeism)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disabilit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eading cause of physical disability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A8E7F-5D3D-4DE3-BE6A-F37A7B4BC8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ngertip-to-Floor tes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428760" y="1643040"/>
            <a:ext cx="49719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Calibri"/>
              </a:rPr>
              <a:t>Sagittal mobility —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bending forward to the point of pain with the knees extended;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Fingertips to floor distanc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s measured in 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66C95-FE17-4891-A6CD-AF23547AE1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457200" y="270000"/>
            <a:ext cx="850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Range of motion of the cervical spine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457200" y="15667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/ext              lateroflexio                      rotat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395280" y="4464000"/>
            <a:ext cx="2322360" cy="181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3492360" y="4608360"/>
            <a:ext cx="2232000" cy="1528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3"/>
          <a:stretch/>
        </p:blipFill>
        <p:spPr>
          <a:xfrm>
            <a:off x="6500880" y="4714920"/>
            <a:ext cx="1942920" cy="15285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6"/>
          <p:cNvSpPr/>
          <p:nvPr/>
        </p:nvSpPr>
        <p:spPr>
          <a:xfrm>
            <a:off x="6858360" y="392904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tat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tto test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08000" y="2154240"/>
            <a:ext cx="4751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rk C7 segment with a marker, then mark another point 30 cm down the spine 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t maximum anteflexion, the distance was great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an 3 c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B3DC6-BEF7-47EC-9211-BE4655EE6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2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dified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Schober tes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971640" y="2735280"/>
            <a:ext cx="70009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1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ve and 5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low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L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 distance should be increased for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t least 5 cm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C6145-B4FF-492A-9880-D748D09A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2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Lumbar lateroflex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45720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Lateral side bending t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level of the middle finger on each side is marked with a horizontal line on the side of the thigh. The subject is then asked to slowly bend sideways as far as possible and that level is also marked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istance between these two lines is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bout 20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ealthy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subjects.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2FA51-7FA2-49D5-A5A2-89AE1E34E9B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index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395280" y="1557360"/>
            <a:ext cx="79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t the level of the intercostal space 4;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x inspirium – max expirium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pends on age and gender;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l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&gt; 5 c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5932A-E3D5-4CF1-AFAB-954481C21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539640" y="1557360"/>
            <a:ext cx="814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Мedicamentou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NSAIDs; disease-modifying medicines, biological Тh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2. Res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0-hour night rest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aily from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1-2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3. Education – explain the nature of the diseas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Physical therap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i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aintain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obility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spine and coxofemoral j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trengthen the function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respiratory muscles.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36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5E672-1147-4999-AB0F-B81D0F8694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457200" y="274680"/>
            <a:ext cx="82296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365040" y="1000080"/>
            <a:ext cx="83646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Ultrasou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igh-dose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1 - 1,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W/cm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on both SI joi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 on PVM of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 spine segment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Kinesitherap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ercises for improvement of the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range of mo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of the spine, exercises for improvement of the range of motion of the hips and shoulder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breathing exercises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- thoracic (costal breathing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„to the point of crying“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hermotherap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SWD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frared radiatio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araffin wax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(pain redu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muscle relaxation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Electroanalgesia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ble galvanizatio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F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with vasodilator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otassium-iodide and hydrocortison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yadynamic currents; Intraferential currents; Electrostimulation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ulse Magnetic Field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Laserotherapy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Massag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(reduces p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decreases the tone of PVM, improves circulation and local metabolism of the tissues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CD3E1-0080-4AB7-BF49-4C2B74DF9E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generative rheumatis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457200" y="66816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rheumatism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755640" y="1484280"/>
            <a:ext cx="7561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Rheumatism of the peripheral joi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thros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Degenerative rheumatic disease of the spine –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pondylo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ervical synd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umbar synd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F9D2B-9132-466E-B642-C951CD3FF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lassification of rheumatic disea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826920" y="2075040"/>
            <a:ext cx="785988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egenerative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Extra-articular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Rare rheumatic diseases and para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B7854-EC40-4939-9F2D-45105E3D1B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08000" y="549360"/>
            <a:ext cx="90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diseases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rthroses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) of joint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1187280" y="1387440"/>
            <a:ext cx="7560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rthroses are defined a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amage of the joint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cartillag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ith proliferation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f the bone ending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ithout synovial inflammation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r if present, it is mild and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secondary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17DD4-9839-42A8-A3B9-72CE74451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arthro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MAR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iopatic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osiv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ONDARY</a:t>
            </a:r>
            <a:r>
              <a:rPr b="1" lang="sr-Latn-CS" sz="28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uri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ditary developmental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bolic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crine disorder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flammation of joints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opathic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ditary disorders in collagen synthesi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25092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Degenerative diseases 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rthroses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) of joint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457200" y="1197000"/>
            <a:ext cx="598644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libri"/>
              </a:rPr>
              <a:t>Clinical picture</a:t>
            </a:r>
            <a:endParaRPr b="0" i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– initially only when overused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Stiffness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– in the morning and after long-term immobilization 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Functional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disorders and joint </a:t>
            </a: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deformations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Crepitation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Laboratory results - normal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DAFF9-CB53-48BD-95DE-F43B66AB4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diographic signs of arthrosi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457200" y="2133720"/>
            <a:ext cx="569916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pace narrow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chondral sclerosi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teophyt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sts in the subchondral bo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592360" cy="2303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6315120" y="4076640"/>
            <a:ext cx="2504880" cy="1828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25933-8885-4B27-B5F0-3DD5790C3B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boratory analy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here are no specific laboratory test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s normal or mildly increased in the subsequent inflammation complica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3AADC-052E-4B7A-BA5B-C19A3C44AC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539640" y="40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vention of 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611280" y="1916280"/>
            <a:ext cx="83055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and an early treatment of congenital deform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ip dislocation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injuri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 (adequate body weight, regular moderate physical activity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609480" y="762120"/>
            <a:ext cx="7131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dicamentous treatmen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1979640" y="1989000"/>
            <a:ext cx="6194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gesic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SAID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administered glucocorticoi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ndroprotect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479520" y="260280"/>
            <a:ext cx="757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n-medication treatment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900000" y="1773360"/>
            <a:ext cx="705816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formity correc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ndoprosthesis implant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ox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763640" y="1557360"/>
            <a:ext cx="6265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most frequent kind of arthrosis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Most common in persons aged &gt; 40 year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=F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250920" y="6245280"/>
            <a:ext cx="3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78215-9484-4877-A80E-1700AF71E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ox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rimary or idiopatic –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t is not the result of any known pathological hip condi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about 42%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xarthroses develop after various pathological hip condi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40% of all coxarthroses are the consequence of the hi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velopmental disord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fter protrusion of the acetabulum, after injuries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u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nflammatio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1B5C4-1425-47FA-91A7-B8948E942B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ombined therap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50920" y="1600200"/>
            <a:ext cx="339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icamentous therapy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algesic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ti-inflammatory  medic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sease-modifying  medic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iological therapy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708360" y="1600200"/>
            <a:ext cx="51847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herapy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etter circulation and tissue nutri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etter evacuation of the extravasate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vention of muscle atrophy and  contractur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enance of the tissue elasticit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enance of the activity of the kinesthetic and motor engram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ral condition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4DB17-B961-479A-873A-8FD606B71D9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250920" y="1341360"/>
            <a:ext cx="84358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ain when walking —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the basic sign of coxarthros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t occurs after 200m, 500m, 1km or more, depending on the degree of coxarthros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At the initial stag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t diminishes with rest and when lying down, but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n the late stage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t is felt during the whole day, later even during the night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t is most often localized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in the anterior thigh extending to the kne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or in the anterior inner thigh; more rarely in the posterior thigh or under th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F258A-C1C2-4DCC-8992-DC76A6D6D2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468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rogressive limitation of the range of hip motion 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flexion movement is affected at the latest stage, while much more common are limited hip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rotatio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or limited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abduc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often accompanied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epi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audible cracking or clicking sound in a damaged hip, as well as occasio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ck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hip join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later stage, the patient experienc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ain when putting pressu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hip,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ypotroph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thigh muscles, or decreased trophy and strength of the thigh musc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019C3-111D-41AE-A982-BC3E3685D8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n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763640" y="1989000"/>
            <a:ext cx="66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comm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60% of persons older 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 years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90% of persons older 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68436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684360" y="1916280"/>
            <a:ext cx="77724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he first clinical sig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starts o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terior or inner si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knee, much more rarely on the outer or posterior side, while later, it affects the whol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t the beginning it occurs when walking, especially on uneven groun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F6E32-A7D8-43CA-983A-170435A46A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rating sensation,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crepita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n th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cking of the knee joint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loss of mo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occurs rarely and usually as a consequence of other damages of the joint cartillage or the menisci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Swelling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of the knee and accumulation of fluid in the knee occur at the later stag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Limitation of movements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especially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flex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occurs many years later after the onset of the diseas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F01C2-81A0-4E96-85D2-079DC32CCE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547640" y="1635120"/>
            <a:ext cx="749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Preventive measur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servativ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: analgesics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SA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locally administered glucocorticoid, chondroprotecto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hysic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rgic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FE2D8-32A2-4171-887C-F97442185D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p endoprosthe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5500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nee endoprosthe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979640" y="1936800"/>
            <a:ext cx="4968720" cy="378144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51A73-A3BB-4C9E-A42C-AC3D35405C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324000" y="1197000"/>
            <a:ext cx="84643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Joint unload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rease of body weight, a cane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crutch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esi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ercises for maintenance and improvement of the strength of the stabilizer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y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 swell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Therm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fter resolving inflamm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Elect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F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potassium-iodid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orti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C, DDC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gnet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ase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Hyd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06653-C6E7-4211-A380-3D6CE9C8E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395280" y="549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rheumatic disease of the spine - spondylosi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1187280" y="1941480"/>
            <a:ext cx="66247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ervical syndrom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Local cervic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brachi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ceph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medulla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D42D6-F4DF-4ED5-85F7-76754887B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Aims of medical rehabilitat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900000" y="1557360"/>
            <a:ext cx="7786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 musc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troph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join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tra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steoporos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bon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str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ue to inactivit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еduc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05A11-AE95-4557-BC5E-2E2C65C49E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468360" y="40464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 of the cervical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uring 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аcute phase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ocally, on the skin above the muscles located near the cervical spine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ryomassag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s applied (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ryowra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In more severe case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stabilization of the cervical spine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in the soft neck brac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Schantz collar) during the day and night, then only during the night while the symptoms are present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74286-F1D7-48A1-8E04-434F51D5A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 of the cervical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chronic phas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en the pain intensity diminishes, аnd the spine becomes more mobile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tions (analges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r NSAIDs as need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or reduction of pain and spasm of the PV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al procedures in the form of warm compresses, hot baths, shower, infrared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apeutic ultrasound or sonophoresis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traction (stretching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 –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most importa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E9533-8256-4202-B5FD-72AAC563E7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0" y="630360"/>
            <a:ext cx="9144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r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57200" y="1628640"/>
            <a:ext cx="82296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Lumbalgia</a:t>
            </a:r>
            <a:r>
              <a:rPr b="1" lang="sr-CS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unspecific lumbar pain) (over 95%) – pain in the lower back from the lower ribs to the gluteal li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ciatic syndrom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less than 5%) - pain spreding usually down one leg, which indicates irritation/compression of the nerve roo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evere spinal pathology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less than 2%) – progressive neurological defici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67C74-EDDF-4F4F-B84B-B8C2C3E3C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lgi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according to its duration: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acut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&lt; 6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subacut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6 -12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chron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&gt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Acute lumbalgia occurs due 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trusion of the nucleus pulposus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ubluxation of the intervertebral joint (facet joint Sy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1564F-C98F-42C2-8C6A-2735278D9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68360" y="6174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r discus herni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6A275-FED0-4C9E-8DB0-A8279605E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3"/>
          <p:cNvSpPr/>
          <p:nvPr/>
        </p:nvSpPr>
        <p:spPr>
          <a:xfrm flipV="1" rot="5400000">
            <a:off x="2052360" y="2203560"/>
            <a:ext cx="2087640" cy="1656000"/>
          </a:xfrm>
          <a:prstGeom prst="rtTriangle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826920" y="2041560"/>
            <a:ext cx="74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ten between the age of 30 and 50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n more than 95% of cases at the level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L5 (compression of the root L5) or at the level L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S1 (compression of the root S1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tabLst>
                <a:tab algn="l" pos="0"/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68360" y="568440"/>
            <a:ext cx="822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2050920" y="1428840"/>
            <a:ext cx="613116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CONSERVATIV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hysical therap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SURGIC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AF11E-A4D8-42EA-A992-253BEB084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600" spc="-1" strike="noStrike">
                <a:solidFill>
                  <a:srgbClr val="000000"/>
                </a:solidFill>
                <a:latin typeface="Calibri"/>
              </a:rPr>
              <a:t>ACUTE STAG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ying in b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(CAUTION!!!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 activity;</a:t>
            </a: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traction</a:t>
            </a:r>
            <a:r>
              <a:rPr b="0" lang="sr-Latn-BA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lumbar sp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 therapy (antiphlogistics, analgesics, sedativ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i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600" spc="-1" strike="noStrike">
                <a:solidFill>
                  <a:srgbClr val="000000"/>
                </a:solidFill>
                <a:latin typeface="Calibri"/>
              </a:rPr>
              <a:t>SUBACUTE STAG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formation and education regarding the diseas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nual 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E404F-E037-4936-A6EA-F9F823A9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468360" y="270000"/>
            <a:ext cx="82296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8220" r="0" b="13858"/>
          <a:stretch/>
        </p:blipFill>
        <p:spPr>
          <a:xfrm>
            <a:off x="533520" y="3005280"/>
            <a:ext cx="2293920" cy="16761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60725-27DA-4BD5-A0D5-9A4115CAA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3048120" cy="2046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3"/>
          <a:stretch/>
        </p:blipFill>
        <p:spPr>
          <a:xfrm>
            <a:off x="6477120" y="297648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4648320" y="3357720"/>
            <a:ext cx="137880" cy="31248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473040" y="50328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68360" y="1546200"/>
            <a:ext cx="3382920" cy="2387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382920" cy="25765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4"/>
          <p:cNvSpPr/>
          <p:nvPr/>
        </p:nvSpPr>
        <p:spPr>
          <a:xfrm>
            <a:off x="4067280" y="1557360"/>
            <a:ext cx="48592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6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ccording to Archimedes' law, water reduces the body's weigh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ater temperature decreases the muscle spasm and improves circul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 muscle weakness, improved efficacy in performance of movements has a positive psychological effec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05196-29D3-4F98-818F-9749E868C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68360" y="6174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Medical rehabilitation 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457200" y="1484280"/>
            <a:ext cx="83628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HRONIC STAG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Therapy in this stage is directed at </a:t>
            </a:r>
            <a:r>
              <a:rPr b="1" lang="sr-Latn-BA" sz="2800" spc="-1" strike="noStrike">
                <a:solidFill>
                  <a:srgbClr val="ff0000"/>
                </a:solidFill>
                <a:latin typeface="Calibri"/>
              </a:rPr>
              <a:t>maintenance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 of the  achieved state, or use of selected procedures on the basis of the functional stat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800" spc="-1" strike="noStrike">
                <a:solidFill>
                  <a:srgbClr val="ff0000"/>
                </a:solidFill>
                <a:latin typeface="Calibri"/>
              </a:rPr>
              <a:t>Ergonomic counselling and train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Through ergonomic counselling, the patient is trained for performing and using the protective movements and posi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6E239-C0EE-4D1E-9C0F-2514A0118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419040" y="189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Ergonomic counselling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7F3D9-51C8-478B-86A6-4575346FA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1096920" y="1279440"/>
            <a:ext cx="6583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471600" y="270000"/>
            <a:ext cx="82296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Prevention of the lumbar syndrome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457200" y="1484280"/>
            <a:ext cx="84358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ssuming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protective positions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– ergotherapeutic adapt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Muscle strengthening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– it is important to achieve balance between the strength of trunk flexors  and extensors, which means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etween the muscles of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the anterior abdominal wal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back muscles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s well 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alance between the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hip flexor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extensor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C9A6E-0500-4E8C-9BA3-548717F4B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Extra-articular rheumatis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835280" y="1467000"/>
            <a:ext cx="59767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hesitis or enthesopath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s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osynov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niculitis or cellul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ofibros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5ADFB-24CA-4CE0-8B2A-EB24BB4B7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eriarthritis humeroscapular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45720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Basically -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swellin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calcificatio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of the soft structures around the shoulder joint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process is  accompanied by the following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symptom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pain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limited range of motion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muscle weaknes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206E3-E76D-4612-AF11-44BCF442A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ENNIS ELBOW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(epicondylitis humeri lateralis)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JAVELIN THROWER'S and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GOLFER'S ELBOW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(epicondylitis humeri medialis)</a:t>
            </a:r>
            <a:endParaRPr b="0" i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611280" y="1600200"/>
            <a:ext cx="799308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ENNIS ELB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ain and tenderness o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te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de of the elb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ttachment of the forear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tens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JAVELIN THROWER'S and GOLFER'S ELB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enderness in the area of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de of the elbow joi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ttachment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ear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lex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thoanatomic chan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t the site of muscle attachments to bone:  periosteal thickening, metaplasia of the muscular attachments and fibrosis, ev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issue calcific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457200" y="3678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403280" y="1589040"/>
            <a:ext cx="692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otherapy (locally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 – electroanalgesic procedur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V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frared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HOCK W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high-energy sound wave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0183A-D33F-4587-BEB2-F908BBC2A8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476280"/>
            <a:ext cx="8229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6836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heumatoid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ondyloarthropat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Ankylosing spondyl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orbusBechterew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i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syndrom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Psoriatic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Enteropathic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8AD3B-9B58-46B7-BADF-27B5EAC278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ic disease of the connective tissu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f unknown etiology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ith chronic and progressive course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nic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mmetric destructive polyarthritis,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volvement of other organs in a small degree,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s consequences include dissability, reduction of working capacity and premature death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92ED5-4744-4B94-82D2-1277EE44A7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6:09:49Z</dcterms:created>
  <dc:creator>Vojislav Ilic</dc:creator>
  <dc:description/>
  <dc:language>en-US</dc:language>
  <cp:lastModifiedBy>Nada Miklja</cp:lastModifiedBy>
  <dcterms:modified xsi:type="dcterms:W3CDTF">2023-09-27T09:24:02Z</dcterms:modified>
  <cp:revision>612</cp:revision>
  <dc:subject/>
  <dc:title>Slide 1</dc:title>
</cp:coreProperties>
</file>